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4275-AE49-4A75-AFDB-D288782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50A9-A173-4430-94FD-90FEDCBA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A69-13F7-45D5-9132-B91D5F0B0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4752-CDEF-4931-A2A6-D8379E32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5B9D6-9DF3-4F86-861D-113F6FA5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9467-8CD2-4675-8C72-B62D5237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4A8D-D62B-4ABE-A744-D0B403F6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5E8A4-4099-4540-92E1-5FAB3BB2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7E7B-0AAD-4CCF-923A-2ABB2206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A7B0-8021-4665-8F80-990E38D7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FE86-9A9B-4F4C-8058-35C251E0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388D-846F-4E42-8AF6-F4ECD0C3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1AF1-588E-478D-A4DE-F947D9DA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6F4E3-862B-4BA2-8A69-E0EC6AC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F7AC7-BC7E-4CBD-B1A5-CD62B930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905BE-F06B-433E-8852-99B223030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B7858-4559-43F8-ADFC-3849311D6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A4BD-DFE9-4BFA-9FDD-40B78FAB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927-1B44-44B4-AC47-F38BDDC1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D1C4-AB81-4DA1-85C7-193056813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C73D-5AF6-41E3-8746-4474DB8D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0EE0-B838-4F30-88B0-C40A2EA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753-40B7-474B-B0F0-1ECBC062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5406-A77E-403E-8DBF-4EEE6449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FC5CE-0ECB-4DCB-A2A8-D3143E849624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73B1-9AE8-41A3-A0E0-F1F03068E6F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8134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四章 寄生虫感染的免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munity in Parasitic Inf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慢性感染和进行性感染都反映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可有效地逃避宿主的免疫效应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逃避机制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组织学隔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变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原伪装（拟态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表面脱落和更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免疫抑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四、免疫逃避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404640"/>
            <a:ext cx="785988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       </a:t>
            </a: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研究抗寄生虫的特异性适应性免疫，对理解寄生虫的致病机制、免疫诊断、流行和防治等都具有十分重要的意义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一、寄生虫抗原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于寄生虫的结构和生活史复杂使寄生虫抗原具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复杂性：表面抗原、代谢抗原和虫体抗原，以表面抗原和代谢抗原的免疫源性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多源性：具有属、种、株和期的特异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二、抗寄生虫的适应性免疫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55640" y="1916280"/>
            <a:ext cx="757080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热带利什曼原虫引起的东方疖可产生消除性免疫，这种免疫现象在寄生虫感染中罕见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非消除性免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带虫免疫：某些寄生虫感染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疟原虫、刚地弓形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可诱导一种特异性免疫应答，使宿主体内的寄生虫数量降低，增殖减慢、维持低水平虫荷，导致临床痊愈，并产生抗特异性攻击的能力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伴随免疫：有些蠕虫感染（日本血吸虫）可诱导宿主产生抗同种寄生虫幼虫再感染的能力，而已寄生的成虫不受保护性免疫的影响，继续存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89080" y="4110120"/>
            <a:ext cx="2303280" cy="22543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3348000" y="4070520"/>
            <a:ext cx="1541520" cy="2311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5796000" y="4076640"/>
            <a:ext cx="3168720" cy="2257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0" y="640080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疟原虫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670120" y="640080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带虫免疫（刚地弓形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724360" y="640080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伴随免疫（日本血吸虫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三、免疫效应机制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效应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受体封闭和封闭细胞的黏合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4360" y="314172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抗体依赖性细胞介导的细胞毒作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DCC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由经典的补体途径介导依赖抗体杀伤寄生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02160" cy="22035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770200" y="439416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介导免疫：抗寄生虫的适应性免疫中细胞免疫起重要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淋巴因子活化效应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700360" y="2997360"/>
            <a:ext cx="360216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细胞毒淋巴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自然杀伤细胞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2625840" y="1341360"/>
            <a:ext cx="3601800" cy="220356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627280" y="4292640"/>
            <a:ext cx="3602160" cy="22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9:27:14Z</dcterms:modified>
  <cp:revision>122</cp:revision>
  <dc:subject/>
  <dc:title>医学寄生虫学总论</dc:title>
</cp:coreProperties>
</file>